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CFEDE6-16BD-4F04-B3EF-4C73AB122E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89CA54-1667-43AB-A10A-2C773647E3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D4FCD16-0B31-4669-A1A4-57A9E58AF7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239ED60-5228-4A44-A3D3-ECC9C95931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A9CD147-D381-4A50-99F7-A7CF6DA11E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DC4478-F71B-4D25-B348-BF627A0AF5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71FD647-D31B-489A-B782-0B1FAA658C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6FFC57B-E7D9-4239-95AA-70B2E84112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03D053D-0B1E-49BA-B21C-48B7A5F507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2B7BC2-1927-4A86-9516-207DB4F4E3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178065-9415-41CE-8E4C-FBC62DD95F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E2CF57-2966-4C94-BEFA-BAAB7A932F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2E7DC-19B7-44C5-9B25-96783B920F9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235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000"/>
            </a:br>
            <a:br>
              <a:rPr sz="4000"/>
            </a:br>
            <a:r>
              <a:rPr b="1" lang="zh-CN" sz="3200" spc="-1" strike="noStrike">
                <a:solidFill>
                  <a:srgbClr val="ffffff"/>
                </a:solidFill>
                <a:latin typeface="Verdana"/>
                <a:ea typeface="宋体"/>
              </a:rPr>
              <a:t>第十七节    肿瘤的康复</a:t>
            </a:r>
            <a:endParaRPr b="0" lang="en-US" sz="3200" spc="-1" strike="noStrike">
              <a:solidFill>
                <a:srgbClr val="ffffff"/>
              </a:solidFill>
              <a:latin typeface="Verdana"/>
            </a:endParaRPr>
          </a:p>
        </p:txBody>
      </p:sp>
      <p:sp>
        <p:nvSpPr>
          <p:cNvPr id="105" name="Text Box 5"/>
          <p:cNvSpPr/>
          <p:nvPr/>
        </p:nvSpPr>
        <p:spPr>
          <a:xfrm>
            <a:off x="6659640" y="551664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光敏疗法：先把某种光敏剂注入机体并使之进入肿瘤组织，然后用特定波长的光辐射使光敏剂产生一系列反应（光激活作用），从而破坏肿瘤细胞。⑤磁疗法：磁场能够降低肿瘤细胞的代谢能力，同时也有缓解疼痛的作用。⑥直流电抗癌药物导入疗法：对于体表肿瘤可以利用直流电将抗癌药物导入，杀伤肿瘤细胞。⑦毫米波疗法：可以抑制肿瘤细胞合成</a:t>
            </a: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使其增殖过程减慢。配合放射治疗效果较好。</a:t>
            </a:r>
            <a:endParaRPr b="1" lang="en-US" sz="28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04920" y="1989000"/>
            <a:ext cx="8610480" cy="42595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理治疗：</a:t>
            </a:r>
            <a:r>
              <a:rPr b="1" lang="zh-CN" sz="2400" spc="-1" strike="noStrike">
                <a:solidFill>
                  <a:srgbClr val="000000"/>
                </a:solidFill>
                <a:latin typeface="Verdana"/>
                <a:ea typeface="宋体"/>
              </a:rPr>
              <a:t>疏导患者正确对待疾病，保持良好的心态，要树立信心，松弛身心，解除紧张焦虑的情绪，积极配合治疗，增强治疗作用。对于严重失眠焦虑的患者，可以适当服用镇静、安眠药，以改善症状。</a:t>
            </a:r>
            <a:endParaRPr b="1" lang="en-US" sz="2400" spc="-1" strike="noStrike">
              <a:solidFill>
                <a:srgbClr val="8ac8de"/>
              </a:solidFill>
              <a:latin typeface="Verdana"/>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2.</a:t>
            </a:r>
            <a:r>
              <a:rPr b="1" lang="zh-CN" sz="2400" spc="-1" strike="noStrike">
                <a:solidFill>
                  <a:srgbClr val="ff0000"/>
                </a:solidFill>
                <a:latin typeface="Verdana"/>
                <a:ea typeface="宋体"/>
              </a:rPr>
              <a:t>治疗期的康复（支持性康复</a:t>
            </a:r>
            <a:r>
              <a:rPr b="1" lang="zh-CN" sz="2400" spc="-1" strike="noStrike">
                <a:solidFill>
                  <a:srgbClr val="ff0000"/>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目的是改善患者的身体功能，预防继发性残疾及并发症，减轻治疗后的不良反应，提高生活自理能力。</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营养支持：应供给充足的热量及蛋白质，并选择优质蛋白质，以矫正氨基酸不平衡，其中牛奶和鸡蛋可改善放疗后蛋白质紊乱；多进食富含维生素</a:t>
            </a:r>
            <a:r>
              <a:rPr b="1" lang="zh-CN" sz="2400" spc="-1" strike="noStrike">
                <a:solidFill>
                  <a:srgbClr val="000000"/>
                </a:solidFill>
                <a:latin typeface="Verdana"/>
                <a:ea typeface="宋体"/>
              </a:rPr>
              <a:t>C</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E</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A</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B1</a:t>
            </a:r>
            <a:r>
              <a:rPr b="1" lang="zh-CN" sz="2400" spc="-1" strike="noStrike">
                <a:solidFill>
                  <a:srgbClr val="000000"/>
                </a:solidFill>
                <a:latin typeface="Verdana"/>
                <a:ea typeface="宋体"/>
              </a:rPr>
              <a:t>的新鲜蔬菜、水果可减轻放射治疗引起的症状。如果患者对放化疗反应较大或肿瘤术后引起吞咽、消化吸收困难者，必要时给予复方营养要素饮食，以增强抵抗力。</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运动疗法：对于手术的患者，术后指导正确的功能位体位摆放，并根据病情，及早进行力所能及的主动活动，活动时一般要避免涉及肿瘤侵犯的部位以及手术切口，活动时间和强度循序渐进；有关节活动障碍的患者，要进行关节活动度的训练；不能下床的患者，至少要在床上进行肢体的主动或被动活动；长期卧床者，要注意呼吸训练，且在开始恢复运动时要注意防止直立性低血压，可以床头逐渐摇高来过渡；对于出现淋巴水肿的患者，要抬高患肢，进行等长和等张收缩运动，还可行向心性按摩及压力治疗。</a:t>
            </a:r>
            <a:endParaRPr b="1" lang="en-US" sz="2400" spc="-1" strike="noStrike">
              <a:solidFill>
                <a:srgbClr val="8ac8de"/>
              </a:solidFill>
              <a:latin typeface="Verdana"/>
            </a:endParaRPr>
          </a:p>
        </p:txBody>
      </p:sp>
      <p:sp>
        <p:nvSpPr>
          <p:cNvPr id="1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917720"/>
            <a:ext cx="8610480" cy="43308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矫形器或辅助具：对于治疗后出现严重功能障碍的患者，可应用矫形器或辅助具，使其尽可能达到生活自理。</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理疗：对于放、化疗后出现的骨髓抑制可采用毫米波穴位治疗；疼痛者可用冷疗法、经皮神经电刺激等。</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心理治疗：给予解说、劝慰或积极的评价与指导，核心是要使患者树立战胜疾病的信心，积极配合治疗</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对伴有抑郁的癌痛患者，如经单纯心理治疗无效，及时加用抗抑郁药治疗。</a:t>
            </a:r>
            <a:endParaRPr b="1" lang="en-US" sz="24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3.</a:t>
            </a:r>
            <a:r>
              <a:rPr b="1" lang="zh-CN" sz="2800" spc="-1" strike="noStrike">
                <a:solidFill>
                  <a:srgbClr val="ff0000"/>
                </a:solidFill>
                <a:latin typeface="Verdana"/>
                <a:ea typeface="宋体"/>
              </a:rPr>
              <a:t>恢复期的康复（恢复性康复</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目的是使患者功能障碍减轻至最低程度，进一步提高生活自理能力，回归社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加强营养支持，达到营养均衡，改善全身状况。</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运动疗法：采用小强度、短时间、多次重复的耐力训练及较温和的运动方式如太极拳、健身操等，根据个人情况调整运动强度及时间，原则是循序渐进，避免疲劳。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支具、矫形器：对于治疗后残留功能障碍者，应加强功能锻炼，必要时使用支具完成功能活动，达到生活完全自理。</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职业训练：对于处于就业年龄并且可以恢复工作者须进行必要的职业康复训练。大多数患者可以通过针对性的康复治疗及合理的环境改造恢复原先的工作。少数不能恢复原工作者，可根据功能情况重新选择或调整合适的工作，并进行相应的职业训练。</a:t>
            </a:r>
            <a:endParaRPr b="1" lang="en-US" sz="2000" spc="-1" strike="noStrike">
              <a:solidFill>
                <a:srgbClr val="8ac8de"/>
              </a:solidFill>
              <a:latin typeface="Verdana"/>
            </a:endParaRPr>
          </a:p>
        </p:txBody>
      </p:sp>
      <p:sp>
        <p:nvSpPr>
          <p:cNvPr id="13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4.</a:t>
            </a:r>
            <a:r>
              <a:rPr b="1" lang="zh-CN" sz="2400" spc="-1" strike="noStrike">
                <a:solidFill>
                  <a:srgbClr val="ff0000"/>
                </a:solidFill>
                <a:latin typeface="Verdana"/>
                <a:ea typeface="宋体"/>
              </a:rPr>
              <a:t>终末期的康复（姑息性康复</a:t>
            </a:r>
            <a:r>
              <a:rPr b="1" lang="en-US" sz="2400" spc="-1" strike="noStrike">
                <a:solidFill>
                  <a:srgbClr val="ff0000"/>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目的是控制疼痛，预防或减轻继发性残疾及各种并发症的发生发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加强支持性治疗，改善营养：对于不能进食者，可通过静脉进行营养支持性治疗。</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运动疗法：根据患者自身情况，进行四肢各关节的主动及被动活动，以防止关节挛缩、坠积性肺炎、深静脉血栓形成等并发症；另外呼吸体操可改善肺功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心理治疗：应注意为癌痛患者创造轻松、热情的氛围，使患者尽量克服孤独、绝望的不良情绪并得到关怀和安慰。</a:t>
            </a:r>
            <a:endParaRPr b="1" lang="en-US" sz="2400" spc="-1" strike="noStrike">
              <a:solidFill>
                <a:srgbClr val="8ac8de"/>
              </a:solidFill>
              <a:latin typeface="Verdana"/>
            </a:endParaRPr>
          </a:p>
        </p:txBody>
      </p:sp>
      <p:sp>
        <p:nvSpPr>
          <p:cNvPr id="13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771280" y="404640"/>
            <a:ext cx="62643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癌痛的康复治疗措施：</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药物治疗：世界卫生组织倡导</a:t>
            </a:r>
            <a:r>
              <a:rPr b="1" lang="zh-CN" sz="2400" spc="-1" strike="noStrike">
                <a:solidFill>
                  <a:srgbClr val="ff0000"/>
                </a:solidFill>
                <a:latin typeface="Verdana"/>
                <a:ea typeface="宋体"/>
              </a:rPr>
              <a:t>“癌性疼痛三阶梯治疗方案”</a:t>
            </a:r>
            <a:r>
              <a:rPr b="1" lang="zh-CN" sz="2400" spc="-1" strike="noStrike">
                <a:solidFill>
                  <a:srgbClr val="000000"/>
                </a:solidFill>
                <a:latin typeface="Verdana"/>
                <a:ea typeface="宋体"/>
              </a:rPr>
              <a:t>，即：①轻度、中度疼痛用非阿片类镇痛药，如阿司匹林、对乙酰氨基酚等；②中度、较重疼痛用弱阿片类镇痛药，如可待因、芬太尼、甲氧酮等；③严重疼痛用强阿片类镇痛药，如吗啡、美沙酮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f0000"/>
                </a:solidFill>
                <a:latin typeface="Verdana"/>
                <a:ea typeface="宋体"/>
              </a:rPr>
              <a:t>用药基本原则是：①个体化用药；②定时给药；③按阶梯给药；④口服给药；⑤第三阶梯推荐使用吗啡类制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50920" y="148392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神经阻滞：包括神经干、神经丛、神经节和神经根注药等多部位治疗方法</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一般药物为</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苯酚溶液或</a:t>
            </a:r>
            <a:r>
              <a:rPr b="1" lang="zh-CN" sz="2400" spc="-1" strike="noStrike">
                <a:solidFill>
                  <a:srgbClr val="000000"/>
                </a:solidFill>
                <a:latin typeface="Verdana"/>
                <a:ea typeface="宋体"/>
              </a:rPr>
              <a:t>10%</a:t>
            </a:r>
            <a:r>
              <a:rPr b="1" lang="zh-CN" sz="2400" spc="-1" strike="noStrike">
                <a:solidFill>
                  <a:srgbClr val="000000"/>
                </a:solidFill>
                <a:latin typeface="Verdana"/>
                <a:ea typeface="宋体"/>
              </a:rPr>
              <a:t>苯酚甘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物理疗法：可采用经皮神经电刺激、毫米波、冷敷、生物反馈、脊髓后根电刺激、针灸等疗法止痛。</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放射线治疗法：包括外照射治疗和放射性核素治疗。</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耐力训练：中等强度的耐力锻炼有助于增加体内内啡肽的含量，改善情绪，缓解疼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手术：如果各种止痛措施均无效，可选择性地切断感觉神经，采用神经松解、脊神经后根切断等手术，以缓解疼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心理治疗：放松疗法及催眠暗示疗法可以使患者放松身心，减轻疼痛；尚可用生物反馈疗法，在仪器的帮助下使患者自我调控，以减轻疼痛或治疗的不利影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920" y="404640"/>
            <a:ext cx="30240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概述</a:t>
            </a:r>
            <a:endParaRPr b="0" lang="en-US" sz="36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肿瘤分为良性肿瘤和恶性肿瘤，是严重威胁人类健康和生命的疾病之一。随着医学的发展，癌症患者的生存率明显提高，但癌症本身及癌症治疗后会造成一定的躯体功能障碍和精神损伤以及严重的并发症，给患者的工作、生活带来重大影响，所以癌症的康复显得极为重要。</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癌症康复目的是康复医学的组成部分，通过采取综合性的康复医疗措施，以减轻或消除癌症所导致的原发性或继发性残疾及其治疗后给患者造成的损害和痛苦，消除病人的心理创伤，以达到改善功能、提高患者生存质量、重建其社会适应能力的目的。</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02920" y="475920"/>
            <a:ext cx="7551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腺癌术后康复治疗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进行乳腺癌根治性手术时，往往将胸大肌、胸小肌和乳房一同切除，术后可能出现肩关节功能障碍；另外术侧淋巴结被广泛切除、淋巴管和静脉损伤、手术切除组织粘连等因素可造成淋巴性水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腺癌术后具体康复治疗措施：</a:t>
            </a: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改善肩关节活动度：①被动运动：术后肩关节置于功能位，第</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或第</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天即应开始肩关节的被动活动，开始时外展和前屈不得超过</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术后第四天起前屈可每天增加</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但应注意不能超过患者的耐受程度。在手术引流条没有撤除之前，肩关节外展必须限制在</a:t>
            </a:r>
            <a:r>
              <a:rPr b="1" lang="en-US" sz="2800" spc="-1" strike="noStrike">
                <a:solidFill>
                  <a:srgbClr val="000000"/>
                </a:solidFill>
                <a:latin typeface="Verdana"/>
                <a:ea typeface="宋体"/>
              </a:rPr>
              <a:t>45°</a:t>
            </a:r>
            <a:r>
              <a:rPr b="1" lang="zh-CN" sz="2800" spc="-1" strike="noStrike">
                <a:solidFill>
                  <a:srgbClr val="000000"/>
                </a:solidFill>
                <a:latin typeface="Verdana"/>
                <a:ea typeface="宋体"/>
              </a:rPr>
              <a:t>以内。内旋和外旋不受限制。引流条撤除后可逐步增大关节活动范围。</a:t>
            </a:r>
            <a:endParaRPr b="1" lang="en-US" sz="2800" spc="-1" strike="noStrike">
              <a:solidFill>
                <a:srgbClr val="8ac8de"/>
              </a:solidFill>
              <a:latin typeface="Verdana"/>
            </a:endParaRPr>
          </a:p>
        </p:txBody>
      </p:sp>
      <p:sp>
        <p:nvSpPr>
          <p:cNvPr id="14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②</a:t>
            </a:r>
            <a:r>
              <a:rPr b="1" lang="zh-CN" sz="2400" spc="-1" strike="noStrike">
                <a:solidFill>
                  <a:srgbClr val="000000"/>
                </a:solidFill>
                <a:latin typeface="Verdana"/>
                <a:ea typeface="宋体"/>
              </a:rPr>
              <a:t>主动运动：术后第</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即应进行术侧上肢的等长收缩和手指、腕、肘的主动屈伸运动，以后逐步增加活动范围。引流条撤除后逐步用术侧上肢进行洗漱、进食、梳头等活动。术后</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周伤口拆线后可行深呼吸运动增加胸廓活动范围，同时加大肩关节活动范围并进行抗阻训练，术侧上肢可作钟摆样运动、耸肩旋肩运动、手指爬墙运动、双臂上举运动等。以上各种运动每天</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次，允许有轻度疼痛，但以能够耐受为度。一般需坚持锻炼半年至</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年。③日常生活活动：术后尽早进行一般的日常生活活动如进食、洗漱、梳头等，并逐步增加日常生活活动的项目和负荷量。开始可用健侧上肢带动患侧上肢，以后逐渐增加活动范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消除淋巴性水肿：①术后即抬高术侧上肢，进行术侧上肢的向心性轻手法按摩。②加强患肢活动，特别是手指的活动，以促进血液循环。③出现水肿后可进行间断性患肢气压袖套治疗或戴弹力手套。④避免在患肢进行测血压、静脉采血、输液等操作，避免下垂或作重负荷活动。同时注意保护患肢，防止外伤。⑤限制食盐入量，尽可能减少水、钠潴留，必要时使用利尿剂。</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形体康复：对乳房切除后的形体缺陷可以在乳罩内充填衬垫或使用乳房假体，必要时行乳房重建术。</a:t>
            </a:r>
            <a:endParaRPr b="1" lang="en-US" sz="2400" spc="-1" strike="noStrike">
              <a:solidFill>
                <a:srgbClr val="8ac8de"/>
              </a:solidFill>
              <a:latin typeface="Verdana"/>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04920" y="1989000"/>
            <a:ext cx="8610480" cy="4259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喉癌术后康复治疗</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喉癌手术通常采用全喉切除术。术后出现言语功能障碍。根治性颈淋巴结清扫可能切断胸锁乳突肌或损伤副神经（支配斜方肌），出现肩下垂，肩关节活动障碍。所以术后应进行针对性的康复治疗。</a:t>
            </a:r>
            <a:endParaRPr b="1" lang="en-US" sz="2400" spc="-1" strike="noStrike">
              <a:solidFill>
                <a:srgbClr val="8ac8de"/>
              </a:solidFill>
              <a:latin typeface="Verdana"/>
            </a:endParaRPr>
          </a:p>
        </p:txBody>
      </p:sp>
      <p:sp>
        <p:nvSpPr>
          <p:cNvPr id="15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95280" y="1483920"/>
            <a:ext cx="861048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气管造口护理：①使用气管插管时定时清除插管内的分泌物，使之保持通畅。②行咳嗽训练以及时排除呼吸道内分泌物。③造口前方覆盖双层清洁的湿纱布用以保护造口。④保持空气清新、湿润、无烟尘。⑤患者忌烟酒，不吃辛辣食物。</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言语功能训练：术后早期可以先用文字、图画、交流板等方式进行交流。②食管发声训练：使食管上部咽缩肌收缩形成类似声带的皱襞，空气进入食管后，再以嗳气的方式排出气体，使皱襞振动，最后经腭、颊、舌、齿、唇等构音器官加工而发音。一般经</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训练便可掌握。</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肩关节运动训练：①可采用关节活动度训练、肌力训练、抗阻运动，尚可行按摩及关节松动术。②理疗：对于麻痹肌肉局部可予低、中频电疗。</a:t>
            </a:r>
            <a:endParaRPr b="1" lang="en-US" sz="24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康复教育</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要保持乐观，心情舒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生活要有规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注意调整饮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积极治疗并发症，为全面康复创造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5.</a:t>
            </a:r>
            <a:r>
              <a:rPr b="1" lang="zh-CN" sz="2400" spc="-1" strike="noStrike">
                <a:solidFill>
                  <a:srgbClr val="000000"/>
                </a:solidFill>
                <a:latin typeface="Verdana"/>
                <a:ea typeface="宋体"/>
              </a:rPr>
              <a:t>适当进行体育锻炼。可根据自身体质情况，选择散步、慢跑、打太极拳、游泳等项目，运动量以不感到疲劳为度。</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7636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功能障碍</a:t>
            </a:r>
            <a:endParaRPr b="0" lang="en-US" sz="36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癌症本身导致的功能障碍（原发性功能障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例如小脑肿瘤引起肢体协调功能障碍，使患者行走受限；脑胶质细胞瘤可引起偏瘫、偏身感觉障碍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癌症导致的继发性损伤（继发性功能障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如肿瘤消耗引起的消瘦、全身耐力下降；长期卧床、制动造成肌肉萎缩和肌力减退及心肺功能下降、关节挛缩、代谢和内分泌功能障碍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癌症治疗后导致的功能障碍主要指手术及放、化疗损伤。如乳腺癌术后出现肩关节活动受限；口面部癌症术后导致吞咽功能障碍；鼻咽癌放疗后导致颞颌关节功能紊乱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95280" y="404640"/>
            <a:ext cx="4886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
        <p:nvSpPr>
          <p:cNvPr id="112" name="PlaceHolder 2"/>
          <p:cNvSpPr>
            <a:spLocks noGrp="1"/>
          </p:cNvSpPr>
          <p:nvPr>
            <p:ph/>
          </p:nvPr>
        </p:nvSpPr>
        <p:spPr>
          <a:xfrm>
            <a:off x="304560" y="1371240"/>
            <a:ext cx="8372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躯体功能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癌症患者躯体功能评定的具体方法与各系统器官相应功能评定方法相同。</a:t>
            </a: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疼痛</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视觉模拟评分法（</a:t>
            </a:r>
            <a:r>
              <a:rPr b="1" lang="zh-CN" sz="2000" spc="-1" strike="noStrike">
                <a:solidFill>
                  <a:srgbClr val="000000"/>
                </a:solidFill>
                <a:latin typeface="Verdana"/>
                <a:ea typeface="宋体"/>
              </a:rPr>
              <a:t>visual analogue scale,VAS)</a:t>
            </a:r>
            <a:r>
              <a:rPr b="1" lang="zh-CN" sz="2000" spc="-1" strike="noStrike">
                <a:solidFill>
                  <a:srgbClr val="000000"/>
                </a:solidFill>
                <a:latin typeface="Verdana"/>
                <a:ea typeface="宋体"/>
              </a:rPr>
              <a:t>在纸上面划一条</a:t>
            </a:r>
            <a:r>
              <a:rPr b="1" lang="zh-CN" sz="2000" spc="-1" strike="noStrike">
                <a:solidFill>
                  <a:srgbClr val="000000"/>
                </a:solidFill>
                <a:latin typeface="Verdana"/>
                <a:ea typeface="宋体"/>
              </a:rPr>
              <a:t>10cm</a:t>
            </a:r>
            <a:r>
              <a:rPr b="1" lang="zh-CN" sz="2000" spc="-1" strike="noStrike">
                <a:solidFill>
                  <a:srgbClr val="000000"/>
                </a:solidFill>
                <a:latin typeface="Verdana"/>
                <a:ea typeface="宋体"/>
              </a:rPr>
              <a:t>的横线，分成</a:t>
            </a:r>
            <a:r>
              <a:rPr b="1" lang="zh-CN" sz="2000" spc="-1" strike="noStrike">
                <a:solidFill>
                  <a:srgbClr val="000000"/>
                </a:solidFill>
                <a:latin typeface="Verdana"/>
                <a:ea typeface="宋体"/>
              </a:rPr>
              <a:t>10</a:t>
            </a:r>
            <a:r>
              <a:rPr b="1" lang="zh-CN" sz="2000" spc="-1" strike="noStrike">
                <a:solidFill>
                  <a:srgbClr val="000000"/>
                </a:solidFill>
                <a:latin typeface="Verdana"/>
                <a:ea typeface="宋体"/>
              </a:rPr>
              <a:t>等份，一端标为</a:t>
            </a:r>
            <a:r>
              <a:rPr b="1" lang="zh-CN" sz="2000" spc="-1" strike="noStrike">
                <a:solidFill>
                  <a:srgbClr val="000000"/>
                </a:solidFill>
                <a:latin typeface="Verdana"/>
                <a:ea typeface="宋体"/>
              </a:rPr>
              <a:t>0</a:t>
            </a:r>
            <a:r>
              <a:rPr b="1" lang="zh-CN" sz="2000" spc="-1" strike="noStrike">
                <a:solidFill>
                  <a:srgbClr val="000000"/>
                </a:solidFill>
                <a:latin typeface="Verdana"/>
                <a:ea typeface="宋体"/>
              </a:rPr>
              <a:t>，表示无痛；另一端为</a:t>
            </a:r>
            <a:r>
              <a:rPr b="1" lang="zh-CN" sz="2000" spc="-1" strike="noStrike">
                <a:solidFill>
                  <a:srgbClr val="000000"/>
                </a:solidFill>
                <a:latin typeface="Verdana"/>
                <a:ea typeface="宋体"/>
              </a:rPr>
              <a:t>10</a:t>
            </a:r>
            <a:r>
              <a:rPr b="1" lang="zh-CN" sz="2000" spc="-1" strike="noStrike">
                <a:solidFill>
                  <a:srgbClr val="000000"/>
                </a:solidFill>
                <a:latin typeface="Verdana"/>
                <a:ea typeface="宋体"/>
              </a:rPr>
              <a:t>，表示剧痛；中间部分表示不同程度的疼痛。让病人根据自我疼痛感觉在横线上作标记，表示疼痛程度。该法比较客观、灵敏，使用方便。</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评估表法通过问答形式由病人作出描述。即</a:t>
            </a:r>
            <a:r>
              <a:rPr b="1" lang="zh-CN" sz="2000" spc="-1" strike="noStrike">
                <a:solidFill>
                  <a:srgbClr val="000000"/>
                </a:solidFill>
                <a:latin typeface="Verdana"/>
                <a:ea typeface="宋体"/>
              </a:rPr>
              <a:t>0</a:t>
            </a:r>
            <a:r>
              <a:rPr b="1" lang="zh-CN" sz="2000" spc="-1" strike="noStrike">
                <a:solidFill>
                  <a:srgbClr val="000000"/>
                </a:solidFill>
                <a:latin typeface="Verdana"/>
                <a:ea typeface="宋体"/>
              </a:rPr>
              <a:t>等于无痛，</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等于有疼痛感，但不严重；</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等于轻微疼痛，病人不舒服；</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等于疼痛，病人痛苦；</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等于疼痛较剧烈，有恐惧感；</a:t>
            </a: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等于剧痛。内容包括疼痛程度、部位、性质、发作情况及伴发症状等。</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2400" spc="-1" strike="noStrike">
                <a:solidFill>
                  <a:srgbClr val="000000"/>
                </a:solidFill>
                <a:latin typeface="Verdana"/>
                <a:ea typeface="宋体"/>
              </a:rPr>
              <a:t>3. McGill</a:t>
            </a:r>
            <a:r>
              <a:rPr b="1" lang="zh-CN" sz="2400" spc="-1" strike="noStrike">
                <a:solidFill>
                  <a:srgbClr val="000000"/>
                </a:solidFill>
                <a:latin typeface="Verdana"/>
                <a:ea typeface="宋体"/>
              </a:rPr>
              <a:t>疼痛问卷法</a:t>
            </a:r>
            <a:r>
              <a:rPr b="1" lang="zh-CN" sz="2400" spc="-1" strike="noStrike">
                <a:solidFill>
                  <a:srgbClr val="000000"/>
                </a:solidFill>
                <a:latin typeface="Verdana"/>
                <a:ea typeface="宋体"/>
              </a:rPr>
              <a:t>(McGill pain questionnaire,</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MPQ)</a:t>
            </a:r>
            <a:r>
              <a:rPr b="1" lang="zh-CN" sz="2400" spc="-1" strike="noStrike">
                <a:solidFill>
                  <a:srgbClr val="000000"/>
                </a:solidFill>
                <a:latin typeface="Verdana"/>
                <a:ea typeface="宋体"/>
              </a:rPr>
              <a:t>分四部分：第一部分为疼痛定级指数，含感觉、情感、评价和杂项</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类，共含</a:t>
            </a:r>
            <a:r>
              <a:rPr b="1" lang="zh-CN" sz="2400" spc="-1" strike="noStrike">
                <a:solidFill>
                  <a:srgbClr val="000000"/>
                </a:solidFill>
                <a:latin typeface="Verdana"/>
                <a:ea typeface="宋体"/>
              </a:rPr>
              <a:t>78</a:t>
            </a:r>
            <a:r>
              <a:rPr b="1" lang="zh-CN" sz="2400" spc="-1" strike="noStrike">
                <a:solidFill>
                  <a:srgbClr val="000000"/>
                </a:solidFill>
                <a:latin typeface="Verdana"/>
                <a:ea typeface="宋体"/>
              </a:rPr>
              <a:t>个表达疼痛的词。第二部分为现在疼痛强度，从无痛到极痛列出</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个词供选择。第三部分为选词总数，从另一个侧面反映受检查者对疼痛的表现。第四部分为疼痛情况和持续时间选词，计</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项</a:t>
            </a:r>
            <a:r>
              <a:rPr b="1" lang="zh-CN" sz="2400" spc="-1" strike="noStrike">
                <a:solidFill>
                  <a:srgbClr val="000000"/>
                </a:solidFill>
                <a:latin typeface="Verdana"/>
                <a:ea typeface="宋体"/>
              </a:rPr>
              <a:t>9</a:t>
            </a:r>
            <a:r>
              <a:rPr b="1" lang="zh-CN" sz="2400" spc="-1" strike="noStrike">
                <a:solidFill>
                  <a:srgbClr val="000000"/>
                </a:solidFill>
                <a:latin typeface="Verdana"/>
                <a:ea typeface="宋体"/>
              </a:rPr>
              <a:t>个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癌症疼痛五级分法根据患者使用镇痛药的情况将癌症疼痛分为五级：</a:t>
            </a:r>
            <a:r>
              <a:rPr b="1" lang="zh-CN" sz="2400" spc="-1" strike="noStrike">
                <a:solidFill>
                  <a:srgbClr val="000000"/>
                </a:solidFill>
                <a:latin typeface="Verdana"/>
                <a:ea typeface="宋体"/>
              </a:rPr>
              <a:t>0</a:t>
            </a:r>
            <a:r>
              <a:rPr b="1" lang="zh-CN" sz="2400" spc="-1" strike="noStrike">
                <a:solidFill>
                  <a:srgbClr val="000000"/>
                </a:solidFill>
                <a:latin typeface="Verdana"/>
                <a:ea typeface="宋体"/>
              </a:rPr>
              <a:t>级：不痛；</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级：需要非麻醉性镇痛药；</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级：需要口服麻醉剂；</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级：需要口服和（或）肌肉注射麻醉剂；</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级：需要静脉注射麻醉剂。</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560" y="1413000"/>
            <a:ext cx="87310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心理状况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癌症患者均存在不同程度的心理障碍。由于焦虑、愤怒、抑郁等心理问题常加剧癌症本身造成的功能障碍。所以，应及时了解癌症患者存在的心理问题，同时进行有效的分析评定，可以增强治疗作用。癌症患者在疾病的不同阶段，存在着不同的心理状态，一般会经历以下几个阶段：</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紧张和抑郁是癌症病人最初的心理反应。由于恐惧、紧张、焦虑，可出现情绪低落、烦躁易怒及睡眠障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怀疑和否认许多癌症患者常出现否认这一心理过程，有些甚至因此延误了治疗的最佳时间。</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愤怒和怨恨这是癌症病人经过怀疑和否认的阶段后表现出的情绪反应。</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抑郁患者长时间受到病痛的折磨或因治疗效果不佳，常会感到沮丧，有些发展为抑郁症，严重者出现自杀行为。</a:t>
            </a:r>
            <a:endParaRPr b="1" lang="en-US" sz="20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四</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活动功能评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般采用</a:t>
            </a:r>
            <a:r>
              <a:rPr b="1" lang="zh-CN" sz="2800" spc="-1" strike="noStrike">
                <a:solidFill>
                  <a:srgbClr val="000000"/>
                </a:solidFill>
                <a:latin typeface="Verdana"/>
                <a:ea typeface="宋体"/>
              </a:rPr>
              <a:t>Karnofsky</a:t>
            </a:r>
            <a:r>
              <a:rPr b="1" lang="zh-CN" sz="2800" spc="-1" strike="noStrike">
                <a:solidFill>
                  <a:srgbClr val="000000"/>
                </a:solidFill>
                <a:latin typeface="Verdana"/>
                <a:ea typeface="宋体"/>
              </a:rPr>
              <a:t>活动状况评定量表。该量表将患者的日常活动能力与疾病的表现进行评定，分为</a:t>
            </a: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类</a:t>
            </a:r>
            <a:r>
              <a:rPr b="1" lang="zh-CN" sz="2800" spc="-1" strike="noStrike">
                <a:solidFill>
                  <a:srgbClr val="000000"/>
                </a:solidFill>
                <a:latin typeface="Verdana"/>
                <a:ea typeface="宋体"/>
              </a:rPr>
              <a:t>11</a:t>
            </a:r>
            <a:r>
              <a:rPr b="1" lang="zh-CN" sz="2800" spc="-1" strike="noStrike">
                <a:solidFill>
                  <a:srgbClr val="000000"/>
                </a:solidFill>
                <a:latin typeface="Verdana"/>
                <a:ea typeface="宋体"/>
              </a:rPr>
              <a:t>级，采用百分制进行量化。</a:t>
            </a:r>
            <a:endParaRPr b="1" lang="en-US" sz="28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747520" y="404640"/>
            <a:ext cx="639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1.</a:t>
            </a:r>
            <a:r>
              <a:rPr b="1" lang="zh-CN" sz="2800" spc="-1" strike="noStrike">
                <a:solidFill>
                  <a:srgbClr val="ff0000"/>
                </a:solidFill>
                <a:latin typeface="Verdana"/>
                <a:ea typeface="宋体"/>
              </a:rPr>
              <a:t>治疗前期的康复（预防性康复</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2000" spc="-1" strike="noStrike">
                <a:solidFill>
                  <a:srgbClr val="000000"/>
                </a:solidFill>
                <a:latin typeface="Verdana"/>
                <a:ea typeface="宋体"/>
              </a:rPr>
              <a:t>目的是尽可能减轻癌症引起的原发性或继发性功能障碍，预防残疾的发生。</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营养支持：癌症患者最主要的问题是营养障碍，合理调配患者的饮食可提高机体抵抗力，对后期的治疗和康复非常有利。应注意少量多餐，食物多样化，易于消化吸收，营养均衡。</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通过分析评估，讨论治疗方案，预计残疾发生的可能性及程度。</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运动疗法：可以采取耐力性训练、关节活动度训练、牵伸训练、力量训练、医疗体操等，以增强身体耐力，维持关节活动度及肌力，为后续治疗打好基础。如果患者不能进行主动活动，可适当进行一些被动训练。运动训练的基本原则是较小强度，较短时间，多次重复，以不产生明显疲劳和症状加重为度。在进行运动之前，要对患者进行全面检查，随时掌握病情变化，制订切实可行的运动负荷量。</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理疗：对肿瘤有一定辅助治疗作用，对于较小的体表肿瘤可以起到根治作用。①高温疗法：超过</a:t>
            </a:r>
            <a:r>
              <a:rPr b="1" lang="en-US" sz="2800" spc="-1" strike="noStrike">
                <a:solidFill>
                  <a:srgbClr val="000000"/>
                </a:solidFill>
                <a:latin typeface="Verdana"/>
                <a:ea typeface="宋体"/>
              </a:rPr>
              <a:t>42.5℃</a:t>
            </a:r>
            <a:r>
              <a:rPr b="1" lang="zh-CN" sz="2800" spc="-1" strike="noStrike">
                <a:solidFill>
                  <a:srgbClr val="000000"/>
                </a:solidFill>
                <a:latin typeface="Verdana"/>
                <a:ea typeface="宋体"/>
              </a:rPr>
              <a:t>的温度可以使肿瘤细胞结构破坏而死亡。一般采用局部加温方法，如热药液腔内注射、热药液或热血区域灌注、红外线辐射等。②冷冻疗法：采用液氮或二氧化碳使局部组织快速达到超低温（</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造成细胞变性坏死。适用于较小的体表肿瘤。③激光疗法：利用激光对生物组织的热、压、光和电磁场效应，应用高功率聚焦激光直接照射，以杀死肿瘤细胞。临床应用可通过切割法、气化法及凝固法等方式进行。</a:t>
            </a:r>
            <a:endParaRPr b="1" lang="en-US" sz="2800" spc="-1" strike="noStrike">
              <a:solidFill>
                <a:srgbClr val="8ac8de"/>
              </a:solidFill>
              <a:latin typeface="Verdana"/>
            </a:endParaRPr>
          </a:p>
        </p:txBody>
      </p:sp>
      <p:sp>
        <p:nvSpPr>
          <p:cNvPr id="12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17:45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